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B4A341-8BFA-46B9-ADD8-9EA3454F7A2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107551-2964-4088-810F-B0BA8E41293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FD0-4DD4-4207-A669-84F2D21E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954-8C9A-48EC-B39B-E87DA08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7CE-D3F4-483C-8025-594C047C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C9C-F0EC-4CEE-B9EC-F6D67E0F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282-930F-4676-83EB-C5C3988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02F-D210-4039-BEFB-2E0BDBAA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AB4-6EF1-4170-A300-A3C19A0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5BC-E4AF-47C0-8256-A431A6C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1B4-AF94-4A02-BA00-56FA302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3B4-DF39-4B96-BAAF-C718CEC0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D0A-DCFE-410A-B72A-6492C76A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8AE-3F3A-4216-92D0-DA1CA1A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F90C3729-4E4D-432A-882B-80E55C38AA04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09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he IALA Annual Questionna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1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Frequency /update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The layo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5160" y="1444680"/>
            <a:ext cx="88246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Frequency /update of inform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CaixaDeTexto 3"/>
          <p:cNvSpPr/>
          <p:nvPr/>
        </p:nvSpPr>
        <p:spPr>
          <a:xfrm>
            <a:off x="2295360" y="2428920"/>
            <a:ext cx="538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Mandatory / Voluntary b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2 parts in the questionnai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Quantitative p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ffff"/>
                </a:solidFill>
                <a:latin typeface="Tahoma"/>
              </a:rPr>
              <a:t>The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ângulo 4"/>
          <p:cNvSpPr/>
          <p:nvPr/>
        </p:nvSpPr>
        <p:spPr>
          <a:xfrm>
            <a:off x="2184840" y="240048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ahoma"/>
              </a:rPr>
              <a:t>http://gis.hidrografico.pt/iala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20:51:41Z</dcterms:created>
  <dc:creator>Andre Chateauvert</dc:creator>
  <dc:description/>
  <dc:language>en-US</dc:language>
  <cp:lastModifiedBy>GABINETE DE ESTUDOS</cp:lastModifiedBy>
  <dcterms:modified xsi:type="dcterms:W3CDTF">2012-11-12T00:09:43Z</dcterms:modified>
  <cp:revision>293</cp:revision>
  <dc:subject/>
  <dc:title>Trends resulting from the IALA Annual Questionnaire (M3)</dc:title>
</cp:coreProperties>
</file>